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31E2-DAE5-405B-85AD-358E5472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716A-2D41-46A0-A11A-D1A48B78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A7DC-AAEE-4DF3-8FB0-50E9BE40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AC78-5EEF-4D7E-9078-FBD7F742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6965-5AF2-460B-818D-B4BE03CB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6ED9-62E6-4364-8C79-DAB5E9FE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457A-F9D0-4C89-8D6A-03F98A06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745B-467E-44B9-AEDD-2B699E2F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DC64-67C7-488A-BB9C-F1388E2B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A192-DDE6-4E16-B6EE-47A0F545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0E78-6441-4B29-AF3F-53D2B6DE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804E-D8A0-4ECF-BA1A-461759F2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C358-3FD6-4951-8355-A10ABEFF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9D16-3423-48EE-AFCB-3F9E2007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3652-AE5A-4FB0-970C-C4C02C0A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A893-1A17-45B9-8B58-A7EB894A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4F53-F1E7-47E8-A8D9-60CF4E15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49F3-E47E-4125-964D-750E8460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F93-8FD2-40A7-A765-70B3176B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04A2-A129-4C5E-963B-945A00AB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85FD-7631-4BF9-AC42-D840496D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57C0-476D-446F-803E-B7E3A5B7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9F97-2AFB-4134-9C41-B2104627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5FB6-DFB7-4368-9975-FB9BC91D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11C9-4370-427E-997B-FB983E8AACA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CB52-1B29-48AF-BF13-628D8422C93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5"/>
          <p:cNvSpPr txBox="1"/>
          <p:nvPr/>
        </p:nvSpPr>
        <p:spPr>
          <a:xfrm>
            <a:off x="1187280" y="2205000"/>
            <a:ext cx="6624720" cy="21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ганы чувст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268360" y="4762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к «Окружающий мир» 3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3">
            <a:hlinkClick r:id="rId1"/>
          </p:cNvPr>
          <p:cNvSpPr/>
          <p:nvPr/>
        </p:nvSpPr>
        <p:spPr>
          <a:xfrm>
            <a:off x="5000760" y="6904080"/>
            <a:ext cx="1346040" cy="23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Нос – орган обоняния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3419640" y="1413000"/>
            <a:ext cx="5400360" cy="4680000"/>
          </a:xfrm>
          <a:prstGeom prst="rect">
            <a:avLst/>
          </a:prstGeom>
          <a:ln w="0">
            <a:noFill/>
          </a:ln>
        </p:spPr>
      </p:pic>
      <p:sp>
        <p:nvSpPr>
          <p:cNvPr id="132" name="WordArt 7"/>
          <p:cNvSpPr txBox="1"/>
          <p:nvPr/>
        </p:nvSpPr>
        <p:spPr>
          <a:xfrm>
            <a:off x="468360" y="2708280"/>
            <a:ext cx="295272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оняние - 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ность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увствов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ах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Как сохранить обоняни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9250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адо закаляться, беречь организм от просту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е лазить в нос посторонними предмет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е курить, так как  обоняние у курящих ухудшается.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Язык – орган вкус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2997360"/>
            <a:ext cx="288288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4969080" cy="4321080"/>
          </a:xfrm>
          <a:prstGeom prst="rect">
            <a:avLst/>
          </a:prstGeom>
          <a:ln w="0">
            <a:noFill/>
          </a:ln>
        </p:spPr>
      </p:pic>
      <p:sp>
        <p:nvSpPr>
          <p:cNvPr id="138" name="WordArt 7"/>
          <p:cNvSpPr txBox="1"/>
          <p:nvPr/>
        </p:nvSpPr>
        <p:spPr>
          <a:xfrm>
            <a:off x="1042920" y="2421000"/>
            <a:ext cx="192420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зы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могае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к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лич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кус еды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Как беречь органы вкус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Чистить зубы, язык и щёки два раза в день (утром и вечером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После приёма пищи прополоскать ро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ельзя есть горячую пищ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е брать в рот острые предме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Кожа – орган осязания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3995640" y="1484280"/>
            <a:ext cx="4464000" cy="4753080"/>
          </a:xfrm>
          <a:prstGeom prst="rect">
            <a:avLst/>
          </a:prstGeom>
          <a:ln w="0">
            <a:noFill/>
          </a:ln>
        </p:spPr>
      </p:pic>
      <p:sp>
        <p:nvSpPr>
          <p:cNvPr id="143" name="WordArt 8"/>
          <p:cNvSpPr txBox="1"/>
          <p:nvPr/>
        </p:nvSpPr>
        <p:spPr>
          <a:xfrm>
            <a:off x="611280" y="2421000"/>
            <a:ext cx="306684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язание - 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нос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увствов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косновения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Правила ухода за кожей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аждую неделю мыть тело горячей водой с мы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ыть руки после загряз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осить свободную одежду и обу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каля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тараться не ранить кожу, не допустить ожогов, обморож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Чтобы кожа дышала, делай каждое утро заряд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9246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«Не глаз видит, не ухо слышит, не нос ощущает, а мозг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9" descr="http://school.ort.spb.ru/library/small_school/nature/chelovec/urok2/pics/mozg2.jpg"/>
          <p:cNvPicPr/>
          <p:nvPr/>
        </p:nvPicPr>
        <p:blipFill>
          <a:blip r:embed="rId1"/>
          <a:stretch/>
        </p:blipFill>
        <p:spPr>
          <a:xfrm>
            <a:off x="1692360" y="3429000"/>
            <a:ext cx="5832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Тест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1. У человека есть орг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. Глаза - это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3. Уши – это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4. Нос – это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5. Кожа – это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6. Органы чувств нуж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7. Всеми органами чувств руков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6084720" y="1628640"/>
            <a:ext cx="1581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чувств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WordArt 5"/>
          <p:cNvSpPr txBox="1"/>
          <p:nvPr/>
        </p:nvSpPr>
        <p:spPr>
          <a:xfrm>
            <a:off x="6084720" y="2276640"/>
            <a:ext cx="1609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зрения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WordArt 6"/>
          <p:cNvSpPr txBox="1"/>
          <p:nvPr/>
        </p:nvSpPr>
        <p:spPr>
          <a:xfrm>
            <a:off x="6156360" y="2852640"/>
            <a:ext cx="1371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слуха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WordArt 7"/>
          <p:cNvSpPr txBox="1"/>
          <p:nvPr/>
        </p:nvSpPr>
        <p:spPr>
          <a:xfrm>
            <a:off x="5867280" y="3357720"/>
            <a:ext cx="2133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обоняния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WordArt 8"/>
          <p:cNvSpPr txBox="1"/>
          <p:nvPr/>
        </p:nvSpPr>
        <p:spPr>
          <a:xfrm>
            <a:off x="5940360" y="3933720"/>
            <a:ext cx="2019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осязания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WordArt 9"/>
          <p:cNvSpPr txBox="1"/>
          <p:nvPr/>
        </p:nvSpPr>
        <p:spPr>
          <a:xfrm>
            <a:off x="6156360" y="4508640"/>
            <a:ext cx="1600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беречь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WordArt 10"/>
          <p:cNvSpPr txBox="1"/>
          <p:nvPr/>
        </p:nvSpPr>
        <p:spPr>
          <a:xfrm>
            <a:off x="2627280" y="5589720"/>
            <a:ext cx="3086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головной мозг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Домашние задание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рочитать статью «Как мы воспринимаем окружающий ми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траницы 132-1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Рабочая тетрадь. Страница 35. Выполнить задание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611280" y="1700280"/>
          <a:ext cx="7924680" cy="3627360"/>
        </p:xfrm>
        <a:graphic>
          <a:graphicData uri="http://schemas.openxmlformats.org/drawingml/2006/table">
            <a:tbl>
              <a:tblPr/>
              <a:tblGrid>
                <a:gridCol w="1320840"/>
                <a:gridCol w="1320840"/>
                <a:gridCol w="1320480"/>
                <a:gridCol w="1320840"/>
                <a:gridCol w="1320840"/>
                <a:gridCol w="1320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00cc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WordArt 609"/>
          <p:cNvSpPr txBox="1"/>
          <p:nvPr/>
        </p:nvSpPr>
        <p:spPr>
          <a:xfrm>
            <a:off x="1116000" y="2276640"/>
            <a:ext cx="30492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6" name="WordArt 610"/>
          <p:cNvSpPr txBox="1"/>
          <p:nvPr/>
        </p:nvSpPr>
        <p:spPr>
          <a:xfrm>
            <a:off x="1116000" y="2781360"/>
            <a:ext cx="30492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7" name="WordArt 611"/>
          <p:cNvSpPr txBox="1"/>
          <p:nvPr/>
        </p:nvSpPr>
        <p:spPr>
          <a:xfrm>
            <a:off x="1116000" y="3284640"/>
            <a:ext cx="3049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8" name="WordArt 612"/>
          <p:cNvSpPr txBox="1"/>
          <p:nvPr/>
        </p:nvSpPr>
        <p:spPr>
          <a:xfrm>
            <a:off x="3780000" y="3284640"/>
            <a:ext cx="3045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9" name="WordArt 613"/>
          <p:cNvSpPr txBox="1"/>
          <p:nvPr/>
        </p:nvSpPr>
        <p:spPr>
          <a:xfrm>
            <a:off x="3780000" y="3860640"/>
            <a:ext cx="304560" cy="3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WordArt 614"/>
          <p:cNvSpPr txBox="1"/>
          <p:nvPr/>
        </p:nvSpPr>
        <p:spPr>
          <a:xfrm>
            <a:off x="3708360" y="4365720"/>
            <a:ext cx="3985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1" name="WordArt 615"/>
          <p:cNvSpPr txBox="1"/>
          <p:nvPr/>
        </p:nvSpPr>
        <p:spPr>
          <a:xfrm>
            <a:off x="3780000" y="4869000"/>
            <a:ext cx="304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2" name="WordArt 616"/>
          <p:cNvSpPr txBox="1"/>
          <p:nvPr/>
        </p:nvSpPr>
        <p:spPr>
          <a:xfrm>
            <a:off x="5076720" y="1773360"/>
            <a:ext cx="30492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3" name="WordArt 617"/>
          <p:cNvSpPr txBox="1"/>
          <p:nvPr/>
        </p:nvSpPr>
        <p:spPr>
          <a:xfrm>
            <a:off x="5076720" y="2276640"/>
            <a:ext cx="30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4" name="WordArt 618"/>
          <p:cNvSpPr txBox="1"/>
          <p:nvPr/>
        </p:nvSpPr>
        <p:spPr>
          <a:xfrm>
            <a:off x="5003640" y="2781360"/>
            <a:ext cx="4320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WordArt 619"/>
          <p:cNvSpPr txBox="1"/>
          <p:nvPr/>
        </p:nvSpPr>
        <p:spPr>
          <a:xfrm>
            <a:off x="5076720" y="3284640"/>
            <a:ext cx="3891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6" name="WordArt 620"/>
          <p:cNvSpPr txBox="1"/>
          <p:nvPr/>
        </p:nvSpPr>
        <p:spPr>
          <a:xfrm>
            <a:off x="6443640" y="3357720"/>
            <a:ext cx="3049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7" name="WordArt 621"/>
          <p:cNvSpPr txBox="1"/>
          <p:nvPr/>
        </p:nvSpPr>
        <p:spPr>
          <a:xfrm>
            <a:off x="6443640" y="3789360"/>
            <a:ext cx="30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8" name="WordArt 622"/>
          <p:cNvSpPr txBox="1"/>
          <p:nvPr/>
        </p:nvSpPr>
        <p:spPr>
          <a:xfrm>
            <a:off x="6443640" y="4365720"/>
            <a:ext cx="30492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9" name="WordArt 623"/>
          <p:cNvSpPr txBox="1"/>
          <p:nvPr/>
        </p:nvSpPr>
        <p:spPr>
          <a:xfrm>
            <a:off x="7740720" y="2276640"/>
            <a:ext cx="30456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WordArt 624"/>
          <p:cNvSpPr txBox="1"/>
          <p:nvPr/>
        </p:nvSpPr>
        <p:spPr>
          <a:xfrm>
            <a:off x="7740720" y="2781360"/>
            <a:ext cx="30456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WordArt 625"/>
          <p:cNvSpPr txBox="1"/>
          <p:nvPr/>
        </p:nvSpPr>
        <p:spPr>
          <a:xfrm>
            <a:off x="7740720" y="3284640"/>
            <a:ext cx="36036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Ы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2" name="WordArt 626"/>
          <p:cNvSpPr txBox="1"/>
          <p:nvPr/>
        </p:nvSpPr>
        <p:spPr>
          <a:xfrm>
            <a:off x="7812000" y="3789360"/>
            <a:ext cx="3049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3" name="WordArt 627"/>
          <p:cNvSpPr txBox="1"/>
          <p:nvPr/>
        </p:nvSpPr>
        <p:spPr>
          <a:xfrm>
            <a:off x="2411280" y="3284640"/>
            <a:ext cx="30492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4" name="WordArt 628"/>
          <p:cNvSpPr txBox="1"/>
          <p:nvPr/>
        </p:nvSpPr>
        <p:spPr>
          <a:xfrm>
            <a:off x="1763640" y="5373720"/>
            <a:ext cx="496908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рганы чувст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Глаза</a:t>
            </a:r>
            <a:r>
              <a:rPr b="0" lang="ru-RU" sz="6300" spc="-1" strike="noStrike">
                <a:solidFill>
                  <a:srgbClr val="ffff00"/>
                </a:solidFill>
                <a:latin typeface="Arial"/>
              </a:rPr>
              <a:t> – орган зрения.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8920" y="2754000"/>
            <a:ext cx="453708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3529080" cy="3960720"/>
          </a:xfrm>
          <a:prstGeom prst="rect">
            <a:avLst/>
          </a:prstGeom>
          <a:ln w="0">
            <a:noFill/>
          </a:ln>
        </p:spPr>
      </p:pic>
      <p:sp>
        <p:nvSpPr>
          <p:cNvPr id="118" name="WordArt 8"/>
          <p:cNvSpPr txBox="1"/>
          <p:nvPr/>
        </p:nvSpPr>
        <p:spPr>
          <a:xfrm>
            <a:off x="468360" y="1916280"/>
            <a:ext cx="4105080" cy="31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рение - 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нос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приним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личину, форму, цве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метов и и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положение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Берегите зрение!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итай, пиши только при хорошем освещении, но помни, что яркий свет не должен попадать в гл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леди за тем, чтобы книга или тетрадь были на расстоянии 30-35 см от глаз. Для этого поставь руку локтем на стол и кончиками пальцев дотянись до ви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 письме свет должен падать сл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нигу при чтении полезно поставить на наклонную подстав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читай лёж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читай в транспор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лай перерыв между чтением 20-30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редно для глаз подолгу смотреть телевизор, компьютер; садись от экрана не ближе чем 2-3 ме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три руками глаза- можно занести соринку или опасные бакте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лай гимнастику для гл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Уши – орган слух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4897440" cy="4392720"/>
          </a:xfrm>
          <a:prstGeom prst="rect">
            <a:avLst/>
          </a:prstGeom>
          <a:ln w="0">
            <a:noFill/>
          </a:ln>
        </p:spPr>
      </p:pic>
      <p:sp>
        <p:nvSpPr>
          <p:cNvPr id="125" name="WordArt 10"/>
          <p:cNvSpPr txBox="1"/>
          <p:nvPr/>
        </p:nvSpPr>
        <p:spPr>
          <a:xfrm>
            <a:off x="5580000" y="2133720"/>
            <a:ext cx="275292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ух - 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нос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приним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вуков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лны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Уши надо беречь !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щищать уши от сильного шу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щищать уши от сильного ве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ковырять в уш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ужно давать отдых слуху, быть в тиш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ыть уши кажды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Если уши заболели обратиться к вра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28504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Вот гора, а у г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Две глубокие нор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В этих норах воздух брод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То заходит, то выходи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( нос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05:57:54Z</dcterms:created>
  <dc:creator>Sam</dc:creator>
  <dc:description/>
  <dc:language>en-US</dc:language>
  <cp:lastModifiedBy>ПК</cp:lastModifiedBy>
  <dcterms:modified xsi:type="dcterms:W3CDTF">2012-12-13T03:24:16Z</dcterms:modified>
  <cp:revision>11</cp:revision>
  <dc:subject/>
  <dc:title>Кроссворд</dc:title>
</cp:coreProperties>
</file>